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444-2D12-4FE6-8B65-072270A2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E81-BB0A-4963-809C-2D4ED76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785-9C6B-4040-BCB3-11FD27F5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96E-6E78-4993-86B2-2E39F0E6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0AD4-0BF6-4054-B0E9-53A9332F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311-508D-46DE-8C57-3EE0C37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0889-E34D-4204-969D-15D1BDF8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4FE1-EDFA-4BA5-BE9B-3020E2A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BA0-DFCA-4F5F-9C96-BB199FA3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774E-7849-4955-9489-E4A55A2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7B45-0235-421F-91DC-1057BDC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AE4-80BC-45BF-85D8-63ECF2CF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20C-9222-4A17-B9F4-3AADD31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885-0B42-4C27-AFA5-AB78F32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F326-68C4-4E3B-A149-A6118AB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2D1-7AAA-4F32-952B-14F541BA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D79E-34CC-4DDF-B54E-525E575A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D23E-3AC4-47FC-A7D9-0DF973C8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B7C8-2162-4600-90F2-FACB2C2B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D2FC-6799-4636-BDA6-90DDDA2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C8B9-D07F-4ABE-B9AC-3782F5FE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9DFF-196C-48E1-8D68-347C1C7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D85-7C36-453D-A223-E4C39F66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F1A9-9A50-4F5A-A515-F4974FB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E40F-DE3F-4F18-A9B3-82EB086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A860-6640-4552-A80E-6CF220E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5EE9-3DAA-4468-B958-BDC085CF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9AB7-820E-4BFF-ADCD-EC8BCC25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06B0-4C17-44C4-B7D7-48E38885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315C-7A85-4BC0-999C-DBB7BE1C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0A96F-511F-43AA-AF71-D2C5ED2C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A7550-EB00-4213-A674-6E2A6FC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9F3DD-D757-4FEF-9B66-953D1626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E9E-540F-49BF-A877-4A8DBA7D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3FB16-05A1-49DC-A8E7-9DF088B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C9A8E-94D5-44E9-AA16-ADA206E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9762A-D802-41B9-800C-34ED9490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1F98C-AA32-4E77-90D4-FE4A0F3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72348-A448-4A51-AE27-F876AB7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C65E1-845C-4061-A275-98F0AB5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D8C19C-E27D-4F4D-8629-7B1E18F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92D4D-C0FA-43AE-BBA0-2852626C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3D35A-EBA6-467D-B5CD-70F6C34F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798-E2E4-48B4-B23B-E9B3F4A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AC9-D5B8-4D53-B85E-588CE405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209-FD8A-44FC-9BC0-4AF8783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7D6-378D-4DAB-BAB0-F86B6A1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299-6F1D-408D-9837-2E37D9B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BDF-0EC8-4DEC-B770-4A83EAEE7D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577-5572-4B80-AB30-164BEFD7FB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2B9-A8FA-46CC-A306-846A7958FE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B103-9682-44CC-A73E-FE42C994B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rra Nevada 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09680" y="609480"/>
            <a:ext cx="47149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QUI EN ESPA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86680" y="2438280"/>
            <a:ext cx="2857320" cy="2305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2280" y="457200"/>
            <a:ext cx="746784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er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milia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 soy en el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ción de esquí. Es el AC Palacio De Santa Paula. Es cinco estrella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ación de esquí 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39 por noche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ner un caf’e y restaurante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 un televisión en e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a, ver el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ontana y 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400800" y="2590920"/>
            <a:ext cx="259092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048120" y="2819520"/>
            <a:ext cx="2782800" cy="3047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3048120" y="2209680"/>
            <a:ext cx="2743200" cy="600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41360" y="5218200"/>
            <a:ext cx="2606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43600" y="5181480"/>
            <a:ext cx="3048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 todo mi afect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ontana en el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erra Nevad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 estacion de esqui. Usar un telesquí. Esquí de la montañ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Photo"/>
          <p:cNvPicPr/>
          <p:nvPr/>
        </p:nvPicPr>
        <p:blipFill>
          <a:blip r:embed="rId1"/>
          <a:stretch/>
        </p:blipFill>
        <p:spPr>
          <a:xfrm>
            <a:off x="228600" y="4330800"/>
            <a:ext cx="2971800" cy="22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203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69880" y="5859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477120" y="1905120"/>
            <a:ext cx="2403360" cy="3124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42900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2057400"/>
            <a:ext cx="266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muy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icil y caen mucho en el nieve. Es frio pero tengo un anorak y los guantos.  Es necesita para esqui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37240" y="53704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152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9040" y="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8f8f8"/>
                </a:solidFill>
                <a:latin typeface="Arial"/>
              </a:rPr>
              <a:t>Querido</a:t>
            </a: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 famili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32680" y="52182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7680" y="5257800"/>
            <a:ext cx="3385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n todo mi cariñ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63416"/>
                </a:solidFill>
                <a:latin typeface="Arial"/>
              </a:rPr>
              <a:t>Querido</a:t>
            </a:r>
            <a:r>
              <a:rPr b="0" lang="en-US" sz="4400" spc="-1" strike="noStrike">
                <a:solidFill>
                  <a:srgbClr val="463416"/>
                </a:solidFill>
                <a:latin typeface="Arial"/>
              </a:rPr>
              <a:t> familia;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ieve es hielo y resbaladiz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4114800" cy="26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089680" y="2855880"/>
            <a:ext cx="33685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ha es necesito  para subir en el montana.  Es frio y nevand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Vi un zor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934320" y="5410080"/>
            <a:ext cx="1904760" cy="1308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590920" y="36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143000"/>
            <a:ext cx="33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40600" y="1218600"/>
            <a:ext cx="39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 subí a una montañ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553080" y="609480"/>
            <a:ext cx="2057400" cy="1343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7640" y="5486400"/>
            <a:ext cx="320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ariñosos salu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Arial"/>
              </a:rPr>
              <a:t>Querido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familia;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i esquiar en el fácil pend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3:12Z</dcterms:created>
  <dc:creator>leeeva</dc:creator>
  <dc:description/>
  <dc:language>en-US</dc:language>
  <cp:lastModifiedBy>leeeva</cp:lastModifiedBy>
  <dcterms:modified xsi:type="dcterms:W3CDTF">2011-11-30T17:05:48Z</dcterms:modified>
  <cp:revision>7</cp:revision>
  <dc:subject/>
  <dc:title>esquiar en España</dc:title>
</cp:coreProperties>
</file>